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8B2D-EA91-4324-A028-B96F0BD9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878-11EA-443D-820D-41258B9B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85FD-1DBB-42F0-840B-33218C15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F70-D6E0-46CD-BAB3-5D752486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2D9A-3C57-4B08-A16A-FBF06F99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2D7D-6377-42C0-8EAF-AAB2CDD4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58B5-E327-4382-94A4-E023CC10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AE47-537D-411A-ADF8-C37CFFAC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F2D1-5E00-4C1C-86B5-27A5FB56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E09B-F3A6-4E16-B9E2-5A79A6ED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23CD-1393-4D92-B405-DCB6FD2E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6AFD-BB53-414D-BF86-832E27A8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95A6-91FC-4A01-86FE-01A9FEB4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2A8F-F30F-4F46-987B-283E0907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B77B-B880-4857-93E8-249FA4B5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E8C1-876B-44E3-9F66-11927301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C81F-AB6E-4361-B868-421E301A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07344-AA38-4A72-9BF6-6704C5F6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F4D6C-28C1-428F-B0ED-90CD3049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61ECE-3128-4B4E-8AE6-0455DD95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46B1A-8117-4C2F-B9A8-37A85DE8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A159B1-5D12-4723-965B-8FA8D334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1398-5A5C-4CF5-AEA4-8FBBEDAB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82CB2-D5AE-41E4-9310-CFF77B30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8D84E-3C27-4C81-891A-4D32F4A7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4A9F0-469C-4F8C-A2AF-CEE60F48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824AB-0928-4E76-8EE9-4326D76C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9D78AA-A158-43D2-9648-C9698E70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41AF9-8C12-4989-B5A4-E049BF6A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3C71F-7F9E-4047-A1A3-1DC1A17A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707DB-3736-4B78-9E4B-DA91E29E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AC594-7A03-4B6B-99D9-07418C99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030E6-0E60-479E-BAD9-5803A458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E971-5BD7-4CE1-B608-AAB7CB5D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4C22D-1862-4313-9F67-AC37526D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E644F-98A3-460F-AB6B-F6F3A7BF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1F489-697F-4059-9690-1BDC0AE7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C7841-B3E6-401B-9B64-55309785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6DA42-4347-4EB8-A765-4AC8624C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914A5-EFF0-44E5-9F61-42D74C05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E04D4-85F8-4C23-834E-A1824F69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6B04A-B1EF-4B77-A848-F28AC131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74B3D-3F22-48BA-A0ED-7FD67BBD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10BB8-C489-4C46-8A5B-205FA9AA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D6B6-892B-45C5-B6F9-88B8899B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E32A5-BF5E-40C1-8282-F744F428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14838-A608-4FDB-8C01-33FFC5CF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1FAD1-4547-4677-B67D-6435A97D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89C30-90EE-48D6-BCAC-236FB7DE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BF4AF-3BA1-4C87-BCCF-F388C360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4E0B7-C0B0-472F-B237-E34A2961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B8157-B705-4E3C-A925-E8614B12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3E4E5-DCDD-4D80-AA65-8F4AB79A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1847D-070B-49D2-9D04-9A423795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76D03-1B26-4480-BB0E-6432A70C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51E3-D95C-45F0-BC08-0924F7D3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7508E-093E-48BF-B963-4804D36C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199-2A60-4BF2-AA40-43839602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66BB-4D24-48A0-86C1-E057D422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27E-603C-4644-B9B0-B2A96667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2AAF1-C68F-4E6D-B247-6869E458A3A1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1CE2F-284A-4192-85E2-DC3AD38DEA81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7"/>
          </p:nvPr>
        </p:nvSpPr>
        <p:spPr>
          <a:xfrm>
            <a:off x="677520" y="6230880"/>
            <a:ext cx="4676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8"/>
          </p:nvPr>
        </p:nvSpPr>
        <p:spPr>
          <a:xfrm>
            <a:off x="8589600" y="6265800"/>
            <a:ext cx="68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A24177-7E8F-4B7E-905A-D60AADB60604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dt" idx="9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7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6C6172-B5BF-4719-ACEA-E7D07531A549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21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A2E05-33D6-4B15-9B8A-3D26BAF6D56B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ebapps.gsis.gr/dsae2/foreisreg/faces/pages/mainmenu/anOikYpList.xhtml" TargetMode="External"/><Relationship Id="rId2" Type="http://schemas.openxmlformats.org/officeDocument/2006/relationships/hyperlink" Target="http://www.eprocurement.gov.gr/kimds2/unprotected/searchRequests.htm?execution=e2s1" TargetMode="External"/><Relationship Id="rId3" Type="http://schemas.openxmlformats.org/officeDocument/2006/relationships/hyperlink" Target="https://diavgeia.gov.gr/" TargetMode="Externa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peppol@gsis.gr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gsis.gr/eggrafi-forea-sto-mitroo-anathetoyson-arhon-gia-ilektroniko-timologio" TargetMode="External"/><Relationship Id="rId2" Type="http://schemas.openxmlformats.org/officeDocument/2006/relationships/hyperlink" Target="mailto:anathetouses@gsis.gr" TargetMode="External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1.gsis.gr/dsae/appauth" TargetMode="External"/><Relationship Id="rId2" Type="http://schemas.openxmlformats.org/officeDocument/2006/relationships/hyperlink" Target="https://webapps.gsis.gr/dsae/grinvoice" TargetMode="External"/><Relationship Id="rId3" Type="http://schemas.openxmlformats.org/officeDocument/2006/relationships/hyperlink" Target="https://www.gsis.gr/e-invoice#EDHT" TargetMode="External"/><Relationship Id="rId4" Type="http://schemas.openxmlformats.org/officeDocument/2006/relationships/hyperlink" Target="mailto:anathetouses@gsis.gr" TargetMode="External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testnew.gsis.gr/dsae/grinvoice" TargetMode="External"/><Relationship Id="rId2" Type="http://schemas.openxmlformats.org/officeDocument/2006/relationships/hyperlink" Target="https://testnew.gsis.gr/dsae/grinvoice" TargetMode="External"/><Relationship Id="rId3" Type="http://schemas.openxmlformats.org/officeDocument/2006/relationships/hyperlink" Target="mailto:Anathetouses@gsis.gr" TargetMode="Externa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gsis.gr/e-invoice#PDE" TargetMode="External"/><Relationship Id="rId2" Type="http://schemas.openxmlformats.org/officeDocument/2006/relationships/hyperlink" Target="https://helpdesk.epde.gr:8181/helpdesk/questions/createquestion.zul?epixid=51866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dd26@glk.gr" TargetMode="External"/><Relationship Id="rId2" Type="http://schemas.openxmlformats.org/officeDocument/2006/relationships/hyperlink" Target="mailto:anathetouses@gsis.gr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98320" y="218088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90c226"/>
                </a:solidFill>
                <a:latin typeface="Trebuchet MS"/>
              </a:rPr>
              <a:t>Ηλεκτρονική Τιμολόγηση στο Πλαίσιο Δημοσίων Συμβάσεων:</a:t>
            </a:r>
            <a:br>
              <a:rPr sz="3200"/>
            </a:br>
            <a:r>
              <a:rPr b="0" lang="el-GR" sz="2800" spc="-1" strike="noStrike">
                <a:solidFill>
                  <a:srgbClr val="90c226"/>
                </a:solidFill>
                <a:latin typeface="Trebuchet MS"/>
              </a:rPr>
              <a:t> Ενέργειες προετοιμασίας, Πρακτική Άσκηση και Εκτέλεση Πιλοτικών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7f7f7f"/>
                </a:solidFill>
                <a:latin typeface="Trebuchet MS"/>
              </a:rPr>
              <a:t>Επιμορφωτική Ημερίδα 06-07-2021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77520" y="810720"/>
            <a:ext cx="8596440" cy="10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df890b"/>
                </a:solidFill>
                <a:latin typeface="Trebuchet MS"/>
              </a:rPr>
              <a:t>7) Για λήψη τιμολογίων από το ΚΕ.Δ. σε συστήματα φορέων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77520" y="1905120"/>
            <a:ext cx="859644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Υποστήριξη και δοκιμές σε συνεννόηση με το ΚΕ.Δ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Αρχική καθοδήγηση για τη χρήση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eb services </a:t>
            </a: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στο: </a:t>
            </a: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https://www.gsis.gr/e-invoice#KED</a:t>
            </a: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Πληροφορίες για το ΚΕ.Δ. στο: </a:t>
            </a: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https://www.gsis.gr/dimosia-dioikisi/ked</a:t>
            </a: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Υποβολή αιτήματος στην Εφαρμογή Διαχείρισης Αιτημάτων Διαλειτουργικότητας https://www1.gsis.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r</a:t>
            </a: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/ed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Αναλυτικές Οδηγίες https://www.gsis.gr/sites/default/files/2019-12/manual_EDA_v3.pdf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Περιοχή διαδικτυακών υπηρεσιών Ηλεκτρονικά Τιμολόγια </a:t>
            </a:r>
            <a:r>
              <a:rPr b="0" lang="en-GB" sz="1600" spc="-1" strike="noStrike">
                <a:solidFill>
                  <a:srgbClr val="404040"/>
                </a:solidFill>
                <a:latin typeface="Trebuchet MS"/>
              </a:rPr>
              <a:t>https://www.gsis.gr/dimosia-dioikisi/ked/webservices/ilektronika-timologia</a:t>
            </a: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Σημείο επικοινωνίας και υποστήριξης το: </a:t>
            </a: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kedsupport@gsis.g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4280" y="407520"/>
            <a:ext cx="9408960" cy="10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df890b"/>
                </a:solidFill>
                <a:latin typeface="Trebuchet MS"/>
              </a:rPr>
              <a:t>Εκτέλεση Πιλοτικών Ηλεκτρονικής Τιμολόγησης στις Δημόσιες Συμβάσεις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77520" y="1456920"/>
            <a:ext cx="859644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Trebuchet MS"/>
              </a:rPr>
              <a:t>Στόχος του πιλοτικού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Δοκιμή σε παραγωγικό-πιλοτικό περιβάλλον εκκαθάρισης και πληρωμής ηλεκτρονικών τιμολογίων από τους Δημόσιους φορείς στο πλαίσιο Δημοσίων Συμβάσεων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Trebuchet MS"/>
              </a:rPr>
              <a:t>Οφέλη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Καλύτερη προετοιμασία αναθετουσών αρχών, οικονομικών υπηρεσιών και προμηθευτών στην ηλεκτρονική τιμολόγηση στις δημόσιες συμβάσεις με την απευθείας υποστήριξη από όλους τους εμπλεκομένους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1600" spc="-1" strike="noStrike">
                <a:solidFill>
                  <a:srgbClr val="404040"/>
                </a:solidFill>
                <a:latin typeface="Trebuchet MS"/>
              </a:rPr>
              <a:t>Έκταση του πιλοτικού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Εφαρμογή σε περιορισμένο αριθμό δαπανών (π.χ. 2-5), που είναι ώριμες για πληρωμή όπως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27920" indent="-280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1400" spc="-1" strike="noStrike">
                <a:solidFill>
                  <a:srgbClr val="404040"/>
                </a:solidFill>
                <a:latin typeface="Trebuchet MS"/>
              </a:rPr>
              <a:t>Δαπάνη χρηματοδοτούμενη από ΠΔΕ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27920" indent="-280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1400" spc="-1" strike="noStrike">
                <a:solidFill>
                  <a:srgbClr val="404040"/>
                </a:solidFill>
                <a:latin typeface="Trebuchet MS"/>
              </a:rPr>
              <a:t>Δαπάνη χρηματοδοτούμενη από Τακτικό ή άλλο προϋπολογισμ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1800" spc="-1" strike="noStrike">
                <a:solidFill>
                  <a:srgbClr val="404040"/>
                </a:solidFill>
                <a:latin typeface="Trebuchet MS"/>
              </a:rPr>
              <a:t>Υποστήριξη του πιλοτικού από τη ΓΓΠΣΔΔ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77520" y="810720"/>
            <a:ext cx="8596440" cy="10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df890b"/>
                </a:solidFill>
                <a:latin typeface="Trebuchet MS"/>
              </a:rPr>
              <a:t>Εξέταση ιδιαίτερων περιπτώσεων τιμολογίων που περιλαμβάνουν ειδικά στοιχεία (1)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2520" y="1856880"/>
            <a:ext cx="110520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1800" spc="-1" strike="noStrike">
                <a:solidFill>
                  <a:srgbClr val="404040"/>
                </a:solidFill>
                <a:latin typeface="Trebuchet MS"/>
              </a:rPr>
              <a:t>Δήμος Αθηναίων – ΕΚΟ ΑΒΕΕ – Ι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MPACT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-&gt; </a:t>
            </a:r>
            <a:r>
              <a:rPr b="0" lang="el-GR" sz="2000" spc="-1" strike="noStrike">
                <a:solidFill>
                  <a:srgbClr val="c0e474"/>
                </a:solidFill>
                <a:latin typeface="Trebuchet MS"/>
              </a:rPr>
              <a:t>Επιτυχής ολοκλήρωση πιλοτικού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Καύσιμα: Αριθμός Βυτιοφόρου-δρομολογίου, Αριθμός σφραγίδας διαμερισμάτων και δειγμάτων κλπ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9" name="Εικόνα 4" descr=""/>
          <p:cNvPicPr/>
          <p:nvPr/>
        </p:nvPicPr>
        <p:blipFill>
          <a:blip r:embed="rId1"/>
          <a:srcRect l="6803" t="25582" r="9039" b="11629"/>
          <a:stretch/>
        </p:blipFill>
        <p:spPr>
          <a:xfrm>
            <a:off x="800280" y="2841480"/>
            <a:ext cx="8915400" cy="37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7520" y="810720"/>
            <a:ext cx="8596440" cy="10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df890b"/>
                </a:solidFill>
                <a:latin typeface="Trebuchet MS"/>
              </a:rPr>
              <a:t>Εξέταση ιδιαίτερων περιπτώσεων τιμολογίων που περιλαμβάνουν ειδικά στοιχεία (2)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90040" y="1833120"/>
            <a:ext cx="108428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1800" spc="-1" strike="noStrike">
                <a:solidFill>
                  <a:srgbClr val="404040"/>
                </a:solidFill>
                <a:latin typeface="Trebuchet MS"/>
              </a:rPr>
              <a:t>Ευαγγελισμός – 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ColoPlast – Retail Link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– </a:t>
            </a:r>
            <a:r>
              <a:rPr b="0" lang="el-GR" sz="1800" spc="-1" strike="noStrike">
                <a:solidFill>
                  <a:srgbClr val="c0e474"/>
                </a:solidFill>
                <a:latin typeface="Trebuchet MS"/>
              </a:rPr>
              <a:t>Πιλοτικό σε εξέλιξ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Κωδικός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MDN/</a:t>
            </a: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ΕΟΦ/ΕΚΑΠΤΥ, Αριθμός Μητρώου Ασθενή,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awback</a:t>
            </a: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,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bate </a:t>
            </a: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κλπ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GMDN: Global Medical Device Nomenclatur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ΕΚΑΠΤΥ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Εθνικό Κέντρο Αξιολόγησης της Ποιότητας και Τεχνολογίας στην Υγεία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2" name="Εικόνα 7" descr=""/>
          <p:cNvPicPr/>
          <p:nvPr/>
        </p:nvPicPr>
        <p:blipFill>
          <a:blip r:embed="rId1"/>
          <a:srcRect l="8167" t="48640" r="2148" b="20185"/>
          <a:stretch/>
        </p:blipFill>
        <p:spPr>
          <a:xfrm>
            <a:off x="263520" y="3668760"/>
            <a:ext cx="1109016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2692080" y="5783040"/>
            <a:ext cx="63183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l-GR" sz="1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2 - Θέση περιεχομένου"/>
          <p:cNvSpPr/>
          <p:nvPr/>
        </p:nvSpPr>
        <p:spPr>
          <a:xfrm>
            <a:off x="1165320" y="708120"/>
            <a:ext cx="9217080" cy="51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>
                <a:solidFill>
                  <a:srgbClr val="e6b91e"/>
                </a:solidFill>
                <a:latin typeface="Calibri"/>
              </a:rPr>
              <a:t>Εμπλεκόμενοι φορείς για το πιλοτικ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Πάροχοι Υπηρεσιών Ηλεκτρονικής Έκδοσης Στοιχείω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ου έχουν πελάτες που είναι προμηθευτές του Δημοσίου Τομέα και κατά προτίμηση έχουν εφαρμόσει ηλεκτρονική τιμολόγηση για Β2Β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Προμηθευτές του Ελληνικού Δημοσί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ύρεση προμηθευτή του δημοσίου με κάποια εμπειρία στην Ηλεκτρονική τιμολόγησ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ναθέτουσες Αρχέ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ρόταση για 1-2 Αναθέτουσες αρχές που προτείνετε να σταλούν Ηλεκτρονικά Τιμολόγι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77520" y="810720"/>
            <a:ext cx="8596440" cy="10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600" spc="-1" strike="noStrike">
                <a:solidFill>
                  <a:srgbClr val="df890b"/>
                </a:solidFill>
                <a:latin typeface="Trebuchet MS"/>
              </a:rPr>
              <a:t>Πιθανά σενάρια- έλεγχοι πιλοτικού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77520" y="1905120"/>
            <a:ext cx="859644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1800" spc="-1" strike="noStrike">
                <a:solidFill>
                  <a:srgbClr val="404040"/>
                </a:solidFill>
                <a:latin typeface="Trebuchet MS"/>
              </a:rPr>
              <a:t>Σενάρια Ελέγχων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Πληρούνται οι προϋποθέσεις της ΑΑΔΕ για τα Η.Τ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Η.Τ. το οποίο γίνεται πλήρως αποδεκτό από την Α.Α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και πληρώνεται στο σύνολό του,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Η.Τ. το οποίο εξοφλείται με τμηματικές πληρωμές,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Η.Τ. το οποίο περιέχει λάθη στην τιμολόγηση, η Α.Α. το αμφισβητεί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Αποστολή πιστωτικού Η.Τ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Η.Τ. το οποίο απορρίπτεται και δεν πληρώνεται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Η.Τ. το οποίο εκδόθηκε με λάθος στοιχεία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7520" y="550440"/>
            <a:ext cx="859644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600" spc="-1" strike="noStrike">
                <a:solidFill>
                  <a:srgbClr val="df890b"/>
                </a:solidFill>
                <a:latin typeface="Trebuchet MS"/>
              </a:rPr>
              <a:t>Εκτέλεση πιλοτικού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77520" y="1905120"/>
            <a:ext cx="8596440" cy="4325760"/>
          </a:xfrm>
          <a:prstGeom prst="rect">
            <a:avLst/>
          </a:prstGeom>
          <a:ln w="0">
            <a:noFill/>
          </a:ln>
        </p:spPr>
      </p:pic>
      <p:pic>
        <p:nvPicPr>
          <p:cNvPr id="299" name="Διάγραμμα 3" descr=""/>
          <p:cNvPicPr/>
          <p:nvPr/>
        </p:nvPicPr>
        <p:blipFill>
          <a:blip r:embed="rId2"/>
          <a:stretch/>
        </p:blipFill>
        <p:spPr>
          <a:xfrm>
            <a:off x="652320" y="1285920"/>
            <a:ext cx="8272440" cy="54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77520" y="810720"/>
            <a:ext cx="8596440" cy="10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df890b"/>
                </a:solidFill>
                <a:latin typeface="Trebuchet MS"/>
              </a:rPr>
              <a:t>Έγκυρη και Επικαιροποιημένη Πληροφόρηση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77520" y="1905120"/>
            <a:ext cx="859644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Στον ειδικό διαδικτυακό τόπο για την ηλεκτρονική τιμολόγηση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https://www.gsis.gr/e-invoice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2" name="Εικόνα 4" descr=""/>
          <p:cNvPicPr/>
          <p:nvPr/>
        </p:nvPicPr>
        <p:blipFill>
          <a:blip r:embed="rId1"/>
          <a:srcRect l="14276" t="14338" r="15215" b="6093"/>
          <a:stretch/>
        </p:blipFill>
        <p:spPr>
          <a:xfrm>
            <a:off x="2182680" y="2790720"/>
            <a:ext cx="5421600" cy="34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77520" y="810720"/>
            <a:ext cx="8596440" cy="10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df890b"/>
                </a:solidFill>
                <a:latin typeface="Trebuchet MS"/>
              </a:rPr>
              <a:t>Πρόσθετη επικοινωνία και έναρξη πιλοτικών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77520" y="1905120"/>
            <a:ext cx="8596440" cy="4325760"/>
          </a:xfrm>
          <a:prstGeom prst="rect">
            <a:avLst/>
          </a:prstGeom>
          <a:ln w="0">
            <a:noFill/>
          </a:ln>
        </p:spPr>
      </p:pic>
      <p:pic>
        <p:nvPicPr>
          <p:cNvPr id="305" name="Ορθογώνιο 3" descr=""/>
          <p:cNvPicPr/>
          <p:nvPr/>
        </p:nvPicPr>
        <p:blipFill>
          <a:blip r:embed="rId2"/>
          <a:stretch/>
        </p:blipFill>
        <p:spPr>
          <a:xfrm>
            <a:off x="853920" y="2054160"/>
            <a:ext cx="759492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77520" y="810720"/>
            <a:ext cx="8596440" cy="10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600" spc="-1" strike="noStrike">
                <a:solidFill>
                  <a:srgbClr val="df890b"/>
                </a:solidFill>
                <a:latin typeface="Trebuchet MS"/>
              </a:rPr>
              <a:t>Περιεχόμενα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77520" y="1905120"/>
            <a:ext cx="859644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Προετοιμασία συμβάσεων για Ηλεκτρονική Τιμολόγηση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Συνεργασία με προμηθευτές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Νέες αναθέτουσες αρχές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Εξουσιοδοτήσεις χρήσης ΕΔΗΤ- Πρακτική άσκηση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Εξουσιοδοτήσεις χρήσης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-</a:t>
            </a: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ΠΔΕ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Υποστήριξη για ζητήματα Εκκαθάρισης και πληρωμής ΗΤ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Λήψη ΗΤ απευθείας από το ΚΕ.Δ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Πιλοτικά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2520" y="558360"/>
            <a:ext cx="9950400" cy="10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400" spc="-1" strike="noStrike">
                <a:solidFill>
                  <a:srgbClr val="df890b"/>
                </a:solidFill>
                <a:latin typeface="Trebuchet MS"/>
              </a:rPr>
              <a:t>1) Συμπερίληψη στις συμβάσεις στοιχείων για την ηλεκτρονική τιμολόγηση άρθρο 281 Ν. 4412/2016 (τροπ. Ν 4782/2021 (Α’ 36)</a:t>
            </a:r>
            <a:r>
              <a:rPr b="0" lang="el-GR" sz="3200" spc="-1" strike="noStrike">
                <a:solidFill>
                  <a:srgbClr val="df890b"/>
                </a:solidFill>
                <a:latin typeface="Trebuchet MS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77520" y="1755360"/>
            <a:ext cx="859644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404040"/>
                </a:solidFill>
                <a:latin typeface="Trebuchet MS"/>
              </a:rPr>
              <a:t>Μοναδικό Κωδικό Αναθέτουσας Αρχής για χρήση στο ΗΤ </a:t>
            </a:r>
            <a:r>
              <a:rPr b="0" lang="el-GR" sz="20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https://webapps.gsis.gr/dsae2/foreisreg/faces/pages/mainmenu/anOikYpList.xhtm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95640" indent="-3956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404040"/>
                </a:solidFill>
                <a:latin typeface="Trebuchet MS"/>
              </a:rPr>
              <a:t>Αριθμός Διαδικτυακής Ανάρτησης Μητρώου Δημόσιας Σύμβασης (ΑΔΑΜ). (</a:t>
            </a:r>
            <a:r>
              <a:rPr b="0" lang="el-GR" sz="2000" spc="-1" strike="noStrike" u="sng">
                <a:solidFill>
                  <a:srgbClr val="99ca3c"/>
                </a:solidFill>
                <a:uFillTx/>
                <a:latin typeface="Trebuchet MS"/>
                <a:hlinkClick r:id="rId2"/>
              </a:rPr>
              <a:t>http://www.eprocurement.gov.gr/kimds2/unprotected/searchRequests.htm?execution=e2s1</a:t>
            </a:r>
            <a:r>
              <a:rPr b="0" lang="el-GR" sz="2000" spc="-1" strike="noStrike">
                <a:solidFill>
                  <a:srgbClr val="404040"/>
                </a:solidFill>
                <a:latin typeface="Trebuchet MS"/>
              </a:rPr>
              <a:t>)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92000" indent="-39600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Εξειδίκευση κατά το δυνατόν του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PV </a:t>
            </a: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όσον αφορά τα αγαθά και τις υπηρεσίες της σύμβαση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95640" indent="-3956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404040"/>
                </a:solidFill>
                <a:latin typeface="Trebuchet MS"/>
              </a:rPr>
              <a:t>Στοιχεία προϋπολογισμού σύμβασης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92000" indent="-39600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α) Αριθμός Διαδικτυακής Ανάρτησης (ΑΔΑ) (</a:t>
            </a:r>
            <a:r>
              <a:rPr b="0" lang="el-GR" sz="1800" spc="-1" strike="noStrike" u="sng">
                <a:solidFill>
                  <a:srgbClr val="99ca3c"/>
                </a:solidFill>
                <a:uFillTx/>
                <a:latin typeface="Trebuchet MS"/>
                <a:hlinkClick r:id="rId3"/>
              </a:rPr>
              <a:t>https://diavgeia.gov.gr/</a:t>
            </a: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)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92000" indent="-39600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β) Ενάριθμος που έχει αποδοθεί από το Πρόγραμμα Δημοσίων Επενδύσεων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77520" y="810720"/>
            <a:ext cx="8596440" cy="10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df890b"/>
                </a:solidFill>
                <a:latin typeface="Trebuchet MS"/>
              </a:rPr>
              <a:t>2) Συνεργασία με προμηθευτές για προετοιμασία ΗΤ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77520" y="1905120"/>
            <a:ext cx="859644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Για την υποστήριξη των προμηθευτών σε θέματα μορφότυπου για το ΗΤ υπεύθυνοι είναι οι φορείς Παροχής Υπηρεσιών Ηλεκτρονικής Έκδοσης Στοιχείων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Για τους φορείς του Δημόσιου Τομέα δύνανται να υποβάλλονται ερωτήματα για τέτοια θέματα πολιτικής ηλεκτρονικού τιμολογίου και μορφότυπου στο </a:t>
            </a:r>
            <a:r>
              <a:rPr b="0" lang="en-GB" sz="18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peppol@gsis.gr</a:t>
            </a: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.</a:t>
            </a: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7520" y="810720"/>
            <a:ext cx="8596440" cy="10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df890b"/>
                </a:solidFill>
                <a:latin typeface="Trebuchet MS"/>
              </a:rPr>
              <a:t>3) Νέες Αναθέτουσες αρχές</a:t>
            </a:r>
            <a:br>
              <a:rPr sz="3200"/>
            </a:br>
            <a:r>
              <a:rPr b="0" lang="el-GR" sz="3200" spc="-1" strike="noStrike">
                <a:solidFill>
                  <a:srgbClr val="df890b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77520" y="1905120"/>
            <a:ext cx="859644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Ήδη έχουν εγγραφεί περίπου 2300 Αναθέτουσες Αρχέ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Εγγραφή στο Μητρώο Αναθετουσών Αρχών για την Ηλεκτρονική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</a:t>
            </a: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ιμολόγηση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με βάση τις οδηγίε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https://www.gsis.gr/eggrafi-forea-sto-mitroo-anathetoyson-arhon-gia-ilektroniko-timologio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Αποστολή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-mail </a:t>
            </a: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στο </a:t>
            </a:r>
            <a:r>
              <a:rPr b="0" lang="en-GB" sz="1800" spc="-1" strike="noStrike" u="sng">
                <a:solidFill>
                  <a:srgbClr val="99ca3c"/>
                </a:solidFill>
                <a:uFillTx/>
                <a:latin typeface="Trebuchet MS"/>
                <a:hlinkClick r:id="rId2"/>
              </a:rPr>
              <a:t>anathetouses@gsis.gr</a:t>
            </a: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με συμπληρωμένα τα στοιχεία του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cel </a:t>
            </a: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που έχουν ήδη συμπληρωθεί για την αρχικοποίηση του Μητρώου.</a:t>
            </a: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7520" y="811080"/>
            <a:ext cx="859644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df890b"/>
                </a:solidFill>
                <a:latin typeface="Trebuchet MS"/>
              </a:rPr>
              <a:t>4) Εξουσιοδοτήσεις για τη χρήση του ΕΔΗΤ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7520" y="1905120"/>
            <a:ext cx="859644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Ανάθεση ρόλων για τη χρήση του ΕΔΗΤ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Εφαρμογή εξουσιοδοτήσεων </a:t>
            </a:r>
            <a:r>
              <a:rPr b="0" lang="el-GR" sz="18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https://www1.gsis.gr/dsae/appauth</a:t>
            </a: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 με τους κωδικούς του φορέα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Διαχειριστής Φορέα για τα ηλεκτρονικά τιμολόγια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Χρήστης/ες Οικονομικής Υπηρεσίας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Διαχειριστικό εφαρμογής του ΕΔΗΤ </a:t>
            </a:r>
            <a:r>
              <a:rPr b="0" lang="en-GB" sz="1800" spc="-1" strike="noStrike" u="sng">
                <a:solidFill>
                  <a:srgbClr val="99ca3c"/>
                </a:solidFill>
                <a:uFillTx/>
                <a:latin typeface="Trebuchet MS"/>
                <a:hlinkClick r:id="rId2"/>
              </a:rPr>
              <a:t>https://webapps.gsis.gr/dsae/grinvoice</a:t>
            </a: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Διαχειριστής Αναθέτουσας Αρχής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Χρήστη/ες Αναθέτουσας Αρχής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Χρήστης/ες Υπόλογοι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, </a:t>
            </a: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Διαχειριστές Πάγιας Προκαταβολής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Απόδοση πρόσβασης ανάγνωσης σε στελέχη ελεγκτικών υπηρεσιών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Οδηγίες χρήσης ΕΔΗΤ: </a:t>
            </a:r>
            <a:r>
              <a:rPr b="0" lang="en-GB" sz="1800" spc="-1" strike="noStrike" u="sng">
                <a:solidFill>
                  <a:srgbClr val="99ca3c"/>
                </a:solidFill>
                <a:uFillTx/>
                <a:latin typeface="Trebuchet MS"/>
                <a:hlinkClick r:id="rId3"/>
              </a:rPr>
              <a:t>https://www.gsis.gr/e-invoice#EDHT</a:t>
            </a: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Ερωτήματα-υποστήριξη στο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-mail: </a:t>
            </a:r>
            <a:r>
              <a:rPr b="0" lang="en-US" sz="1800" spc="-1" strike="noStrike" u="sng">
                <a:solidFill>
                  <a:srgbClr val="99ca3c"/>
                </a:solidFill>
                <a:uFillTx/>
                <a:latin typeface="Trebuchet MS"/>
                <a:hlinkClick r:id="rId4"/>
              </a:rPr>
              <a:t>anathetouses@gsis.gr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77520" y="810720"/>
            <a:ext cx="8596440" cy="10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600" spc="-1" strike="noStrike">
                <a:solidFill>
                  <a:srgbClr val="df890b"/>
                </a:solidFill>
                <a:latin typeface="Trebuchet MS"/>
              </a:rPr>
              <a:t>4α) Πρακτική άσκηση για το ΕΔΗΤ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77520" y="1905120"/>
            <a:ext cx="859644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Σύστημα δοκιμών και ελέγχων</a:t>
            </a:r>
            <a:r>
              <a:rPr b="0" lang="el-GR" sz="20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 </a:t>
            </a:r>
            <a:r>
              <a:rPr b="0" lang="en-GB" sz="2000" spc="-1" strike="noStrike" u="sng">
                <a:solidFill>
                  <a:srgbClr val="99ca3c"/>
                </a:solidFill>
                <a:uFillTx/>
                <a:latin typeface="Trebuchet MS"/>
                <a:hlinkClick r:id="rId2"/>
              </a:rPr>
              <a:t>https://testnew.gsis.gr/dsae/grinvoic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Όνομα χρήστη: </a:t>
            </a:r>
            <a:r>
              <a:rPr b="0" lang="en-GB" sz="1600" spc="-1" strike="noStrike">
                <a:solidFill>
                  <a:srgbClr val="404040"/>
                </a:solidFill>
                <a:latin typeface="Trebuchet MS"/>
              </a:rPr>
              <a:t>rg1201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Κωδικός πρόσβασης: 12345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Ρόλοι ΕΔΗΤ κλ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Τεστ τιμολόγια -&gt; Τα στοιχεία δεν είναι πραγματικά αλλά προσομοιάζουν με τα πραγματικά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Τεστ ΑΦΜ για κάθε ρόλο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Θα πρέπει να γίνει προγραμματισμός της πρακτικής άσκησης για τον έλεγχο συγκεκριμένων τιμολογίων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Υποστήριξη – Ερωτήματα στο: </a:t>
            </a:r>
            <a:r>
              <a:rPr b="0" lang="en-US" sz="1800" spc="-1" strike="noStrike" u="sng">
                <a:solidFill>
                  <a:srgbClr val="99ca3c"/>
                </a:solidFill>
                <a:uFillTx/>
                <a:latin typeface="Trebuchet MS"/>
                <a:hlinkClick r:id="rId3"/>
              </a:rPr>
              <a:t>anathetouses@gsis.g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77520" y="426960"/>
            <a:ext cx="859644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600" spc="-1" strike="noStrike">
                <a:solidFill>
                  <a:srgbClr val="df890b"/>
                </a:solidFill>
                <a:latin typeface="Trebuchet MS"/>
              </a:rPr>
              <a:t>5) Εξουσιοδοτήσεις για χρήση του </a:t>
            </a:r>
            <a:r>
              <a:rPr b="0" lang="en-US" sz="3600" spc="-1" strike="noStrike">
                <a:solidFill>
                  <a:srgbClr val="df890b"/>
                </a:solidFill>
                <a:latin typeface="Trebuchet MS"/>
              </a:rPr>
              <a:t>e-</a:t>
            </a:r>
            <a:r>
              <a:rPr b="0" lang="el-GR" sz="3600" spc="-1" strike="noStrike">
                <a:solidFill>
                  <a:srgbClr val="df890b"/>
                </a:solidFill>
                <a:latin typeface="Trebuchet MS"/>
              </a:rPr>
              <a:t>ΠΔ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77520" y="1236600"/>
            <a:ext cx="85964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Αίτηση Δημιουργίας χρήστη με ρόλο Υπεύθυνου Διαχείρισης Ηλεκτρονικού Τιμολογίου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67480" indent="-267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67480" indent="-267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67480" indent="-267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67480" indent="-267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67480" indent="-267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67480" indent="-267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67480" indent="-267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67480" indent="-267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67480" indent="-267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Οδηγίες για τη διαχείριση ΗΤ στο σύστημα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-</a:t>
            </a: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ΠΔΕ: </a:t>
            </a:r>
            <a:r>
              <a:rPr b="0" lang="en-GB" sz="18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https://www.gsis.gr/e-invoice#PDE</a:t>
            </a: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67480" indent="-267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Ερωτήματα υποστήριξη στο:   </a:t>
            </a:r>
            <a:r>
              <a:rPr b="0" lang="en-GB" sz="1800" spc="-1" strike="noStrike" u="sng">
                <a:solidFill>
                  <a:srgbClr val="99ca3c"/>
                </a:solidFill>
                <a:uFillTx/>
                <a:latin typeface="Trebuchet MS"/>
                <a:hlinkClick r:id="rId2"/>
              </a:rPr>
              <a:t>https://helpdesk.epde.gr:8181/helpdesk/questions/createquestion.zul?epixid=51866</a:t>
            </a: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0" name="Εικόνα 4" descr=""/>
          <p:cNvPicPr/>
          <p:nvPr/>
        </p:nvPicPr>
        <p:blipFill>
          <a:blip r:embed="rId3"/>
          <a:srcRect l="25969" t="19391" r="25565" b="19430"/>
          <a:stretch/>
        </p:blipFill>
        <p:spPr>
          <a:xfrm>
            <a:off x="4307040" y="1798560"/>
            <a:ext cx="4522680" cy="32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77520" y="810720"/>
            <a:ext cx="8596440" cy="10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df890b"/>
                </a:solidFill>
                <a:latin typeface="Trebuchet MS"/>
              </a:rPr>
              <a:t>6) Εκκαθάριση Δαπανών και πληρωμής του ΗΤ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77520" y="1905120"/>
            <a:ext cx="859644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Ευκολότερος έλεγχος και εκκαθάριση δαπανών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76080" indent="-2599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Ορθός υπολογισμός ανά κατηγορία ΦΠΑ, έλεγχος συνολικών τιμών παραστατικού (αθροίσματα κλπ),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76080" indent="-2599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Πληρότητα για όλα τα απαραίτητα στοιχεία του τιμολογίου,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76080" indent="-2599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Εξασφάλιση φορολογικών υποχρεώσεων προμηθευτή κλπ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76080" indent="-2599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Trebuchet MS"/>
              </a:rPr>
              <a:t>Υποστηρικτικά έγγραφα για την πληρωμή των δαπανών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Επιχειρησιακά και θεσμικά ερωτήματα-υποστήριξη στο </a:t>
            </a:r>
            <a:r>
              <a:rPr b="0" lang="en-GB" sz="18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dd26@glk.g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Ζητήματα που αφορούν στη χρήση του ΟΠΣΔΠ στο  </a:t>
            </a:r>
            <a:r>
              <a:rPr b="0" lang="en-GB" sz="1800" spc="-1" strike="noStrike" u="sng">
                <a:solidFill>
                  <a:srgbClr val="99ca3c"/>
                </a:solidFill>
                <a:uFillTx/>
                <a:latin typeface="Trebuchet MS"/>
                <a:hlinkClick r:id="rId2"/>
              </a:rPr>
              <a:t>anathetouses@gsis.g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Ζητήματα που αφορούν στη χρήση του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-PDE </a:t>
            </a:r>
            <a:r>
              <a:rPr b="0" lang="el-GR" sz="1800" spc="-1" strike="noStrike">
                <a:solidFill>
                  <a:srgbClr val="404040"/>
                </a:solidFill>
                <a:latin typeface="Trebuchet MS"/>
              </a:rPr>
              <a:t>στο  </a:t>
            </a: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https://helpdesk.epde.gr:8181/helpdesk/questions/createquestion.zul?epixid=51866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2T13:02:05Z</dcterms:created>
  <dc:creator>Καρβούνης Άγγελος</dc:creator>
  <dc:description/>
  <dc:language>en-US</dc:language>
  <cp:lastModifiedBy>Antonios.STASIS</cp:lastModifiedBy>
  <dcterms:modified xsi:type="dcterms:W3CDTF">2021-07-06T08:57:14Z</dcterms:modified>
  <cp:revision>824</cp:revision>
  <dc:subject/>
  <dc:title>ΚΕΝΤΡΟ ΔΙΑΛΕΙΤΟΥΡΓΙΚΟΤΗΤΑΣ</dc:title>
</cp:coreProperties>
</file>