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8EB-FE42-4D02-AF00-9D60966D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48A-E080-449F-8A54-CBFB9D8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74C-1D90-4E99-920B-B0CDDBDD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F15-E5C1-42FE-8354-2122D4C0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232B-2D77-49F7-9422-CD5A93FA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7622-5935-46AC-92E8-883A8606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EE4A-6905-4BFC-9592-21614F1A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762A-F72C-47C8-8359-1913C55A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3D3-270F-43D4-AA4A-AA20BE98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3D78-6E77-41E9-BF5F-3CBEB023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F417-DD6F-4174-9B41-94FF967D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4B5-4327-4003-BADF-4CF84ED1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462A-8BBE-4E6C-AB21-1EDCE4BC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A8E9-DD24-4551-81EA-7E1E148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0D3C-7424-4595-BA92-699FE221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4163-226C-4FDB-BAA2-4B6369D5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342E-35AE-44AA-9B55-29D6718F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517-17C0-47E6-99A9-5885ACB6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500-7162-468F-AD4B-2C0B07D3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BF8-9FAE-4706-8E97-638897C3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6CF-AFB4-466A-8A41-2194AD15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A16-AC38-4419-B059-32952198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FC1-0A31-4752-9005-66D232A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FCA-BF42-4BAC-8E2A-707D59B2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A95A-2DC1-49C1-91A8-33A5CEDABF0E}" type="slidenum">
              <a:rPr b="0" lang="el-G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DD97-EBD1-4879-A59C-18077AF9DAE6}" type="slidenum">
              <a:rPr b="0" lang="el-G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05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333399"/>
                </a:solidFill>
                <a:latin typeface="Times New Roman"/>
              </a:rPr>
              <a:t>Ε.Κ.Δ.Δ.Α. ημερίδα:</a:t>
            </a:r>
            <a:br>
              <a:rPr sz="3600"/>
            </a:br>
            <a:r>
              <a:rPr b="1" lang="el-GR" sz="3600" spc="-1" strike="noStrike">
                <a:solidFill>
                  <a:srgbClr val="333399"/>
                </a:solidFill>
                <a:latin typeface="Times New Roman"/>
              </a:rPr>
              <a:t>«Πρόγραμμα Κλεισθένης 1 - </a:t>
            </a:r>
            <a:r>
              <a:rPr b="1" lang="el-GR" sz="3600" spc="-1" strike="noStrike">
                <a:solidFill>
                  <a:srgbClr val="333399"/>
                </a:solidFill>
                <a:latin typeface="Book Antiqua"/>
              </a:rPr>
              <a:t>Μεταρρύθμιση του θεσμικού πλαισίου της Τ.Α.</a:t>
            </a:r>
            <a:r>
              <a:rPr b="1" lang="el-GR" sz="36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990033"/>
                </a:solidFill>
                <a:latin typeface="Calibri"/>
                <a:ea typeface="Calibri"/>
              </a:rPr>
              <a:t>«Κατηγοριοποίηση Δήμων</a:t>
            </a:r>
            <a:r>
              <a:rPr b="1" i="1" lang="el-GR" sz="32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1" i="1" lang="el-GR" sz="3200" spc="-1" strike="noStrike">
                <a:solidFill>
                  <a:srgbClr val="990033"/>
                </a:solidFill>
                <a:latin typeface="Calibri"/>
                <a:ea typeface="Calibri"/>
              </a:rPr>
              <a:t>-</a:t>
            </a:r>
            <a:r>
              <a:rPr b="1" i="1" lang="el-GR" sz="32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1" i="1" lang="el-GR" sz="3200" spc="-1" strike="noStrike">
                <a:solidFill>
                  <a:srgbClr val="990033"/>
                </a:solidFill>
                <a:latin typeface="Calibri"/>
                <a:ea typeface="Calibri"/>
              </a:rPr>
              <a:t>Μεταβολές στη δομή και τη</a:t>
            </a:r>
            <a:r>
              <a:rPr b="1" i="1" lang="en-US" sz="3200" spc="-1" strike="noStrike">
                <a:solidFill>
                  <a:srgbClr val="990033"/>
                </a:solidFill>
                <a:latin typeface="Calibri"/>
                <a:ea typeface="Calibri"/>
              </a:rPr>
              <a:t> </a:t>
            </a:r>
            <a:r>
              <a:rPr b="1" i="1" lang="el-GR" sz="3200" spc="-1" strike="noStrike">
                <a:solidFill>
                  <a:srgbClr val="990033"/>
                </a:solidFill>
                <a:latin typeface="Calibri"/>
                <a:ea typeface="Calibri"/>
              </a:rPr>
              <a:t>λειτουργία των Δήμων</a:t>
            </a:r>
            <a:r>
              <a:rPr b="1" i="1" lang="el-GR" sz="32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1" i="1" lang="el-GR" sz="3200" spc="-1" strike="noStrike">
                <a:solidFill>
                  <a:srgbClr val="990033"/>
                </a:solidFill>
                <a:latin typeface="Calibri"/>
                <a:ea typeface="Calibri"/>
              </a:rPr>
              <a:t>-</a:t>
            </a:r>
            <a:r>
              <a:rPr b="1" i="1" lang="el-GR" sz="32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1" i="1" lang="el-GR" sz="3200" spc="-1" strike="noStrike">
                <a:solidFill>
                  <a:srgbClr val="990033"/>
                </a:solidFill>
                <a:latin typeface="Calibri"/>
                <a:ea typeface="Calibri"/>
              </a:rPr>
              <a:t>Ανακατανομή αρμοδιοτήτων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990033"/>
                </a:solidFill>
                <a:latin typeface="Times New Roman"/>
              </a:rPr>
              <a:t>Τάσος Σαπουνάκης, Οικονομολόγος -</a:t>
            </a:r>
            <a:br>
              <a:rPr sz="1800"/>
            </a:br>
            <a:r>
              <a:rPr b="1" i="1" lang="el-GR" sz="1800" spc="-1" strike="noStrike">
                <a:solidFill>
                  <a:srgbClr val="990033"/>
                </a:solidFill>
                <a:latin typeface="Times New Roman"/>
              </a:rPr>
              <a:t>Σύμβουλος Τοπικής Αυτοδιοίκηση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Μεταβίβαση αρμοδιοτήτω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9720"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Δημοτικό Συμβούλιο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9720" indent="-189720">
              <a:lnSpc>
                <a:spcPct val="11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Οικονομική Επιτροπή (νέο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9720" indent="-189720">
              <a:lnSpc>
                <a:spcPct val="11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Επιτροπή Ποιότητας Ζωή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9720" indent="-189720">
              <a:lnSpc>
                <a:spcPct val="11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</a:rPr>
              <a:t>Υποχρεωτική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ahoma"/>
              </a:rPr>
              <a:t>συμμετοχή 2 Αντιδήμαρχω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9720" indent="-189720">
              <a:lnSpc>
                <a:spcPct val="11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Συμβούλια Κοινοτήτων και Πρόεδροι Κοινοτήτω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9720"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Δήμαρχος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Αντιδήμαρχοι, Συμβούλια Κοινοτήτων και Πρόεδροι Κοινοτήτων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005-89DB-4B1D-AA1C-92A2AF6542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Νομικά πρόσωπα - Επιτροπέ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5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Διοικητικά Συμβούλια Νομικών Προσώπων: ορίζονται από το Δημοτικό Συμβούλιο (όχι πλέον διάκριση πλειοψηφίας - μειοψηφία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Δημοτική Επιτροπή Διαβούλευσης: δήμοι &gt; 5.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280" indent="-2872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Συμβούλιο Ένταξης Μεταναστών και Προσφύγων (όλοι οι Δήμο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B00-567E-4CFA-8FAB-E29ED42938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Επιχειρησιακά Προγράμματ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89720" indent="-1897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ύνδεση Τετραετών Επιχειρησιακών Προγραμμάτων και Ετησίων Προγραμμάτων Δράσης με τεχνικό πρόγραμμα και προϋπολογισμό, εκτός από το πρώτο έτο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9720" indent="-1897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κοπός: σύνδεση Ε.Π. με χωρικό και αναπτυξιακό σχεδιασμό. Σύσταση Επιτροπής Παρακολούθησης και Υλοποίησης Χωρικού και Αναπτυξιακού Σχεδιασμού Τοπικού και Περιφερειακού Επιπέδο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9720" indent="-1897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ύνδεση Ε.Π. με Τοπικά Χωρικά Σχέδια και Πολεοδομικά Σχέδια Εφαρμογή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9720" indent="-1897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Κ.Υ.Α. περιεχόμενο, δομή, προδιαγραφές Ε.Π. ανά κατηγορία Δήμων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C23-AB80-4806-9614-D22538D540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Αρμοδιότητε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Διαδικασία και χρονοδιάγραμμα ανακαθορισμού της κατανομής αρμοδιοτήτων και διαδικασιών Κεντρικής Διοίκησης - Αποκεντρωμένων Διοικήσεων - Τ.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ύσταση Διυπουργικών Επιτροπών Ανακαθορισμού Αρμοδιοτήτων και Διαδικασιών (4 μήνε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Σύσταση μόνιμης Επιτροπής Ελέγχου Αρμοδιοτήτων Τ.Α. (έλεγχος νομοσχεδίων που αφορούν αυτοδιοίκησ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F7E-DEFF-49EA-A309-518A2D1118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Υποστήριξη - οργάνωση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MyriadPro-Regular"/>
              </a:rPr>
              <a:t>Μ.Ο.Δ.</a:t>
            </a:r>
            <a:r>
              <a:rPr b="0" lang="el-GR" sz="2000" spc="-1" strike="noStrike">
                <a:solidFill>
                  <a:srgbClr val="000000"/>
                </a:solidFill>
                <a:latin typeface="MyriadPro-Regular"/>
              </a:rPr>
              <a:t>: παροχή συμβουλευτικών υπηρεσιών για εκπόνηση, ανάθεση, επίβλεψη μελετών, ωρίμανση ή δημοπράτηση έργων, (σύνταξη τευχών δημοπράτησης, διακηρύξεις μελετών έργω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MyriadPro-Regular"/>
              </a:rPr>
              <a:t>Ε.Ε.Τ.Α.Α.</a:t>
            </a:r>
            <a:r>
              <a:rPr b="0" lang="el-GR" sz="2000" spc="-1" strike="noStrike">
                <a:solidFill>
                  <a:srgbClr val="000000"/>
                </a:solidFill>
                <a:latin typeface="MyriadPro-Regular"/>
              </a:rPr>
              <a:t>: με προγραμματική σύμβαση αναλαμβάνει τη σύναψη, εποπτεία, επίβλεψη δημοσίων συμβάσεων μελετών Δήμω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MyriadPro-Regular"/>
              </a:rPr>
              <a:t>Προγραμματικές Συμβάσεις</a:t>
            </a:r>
            <a:r>
              <a:rPr b="0" lang="el-GR" sz="2000" spc="-1" strike="noStrike">
                <a:solidFill>
                  <a:srgbClr val="000000"/>
                </a:solidFill>
                <a:latin typeface="MyriadPro-Regular"/>
              </a:rPr>
              <a:t> νέοι συμβαλλόμενοι: Εγνατία Οδός, ΜΟΔ, Τ.Π.Δ., ΕΤΑ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MyriadPro-Regular"/>
              </a:rPr>
              <a:t>Διαδημοτικοί Σύνδεσμοι Τεχνικής Υπηρεσίας</a:t>
            </a:r>
            <a:r>
              <a:rPr b="0" lang="el-GR" sz="2000" spc="-1" strike="noStrike">
                <a:solidFill>
                  <a:srgbClr val="000000"/>
                </a:solidFill>
                <a:latin typeface="MyriadPro-Regular"/>
              </a:rPr>
              <a:t>: αναλαμβάνει όλες τις υποχρεώσεις και αρμοδιότητες των τεχνικών υπηρεσιών των δήμων (Διευθύνουσα / Επιβλέπουσα Υπηρεσία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MyriadPro-Regular"/>
              </a:rPr>
              <a:t>Υπηρεσία Δόμησης</a:t>
            </a:r>
            <a:r>
              <a:rPr b="0" lang="el-GR" sz="2000" spc="-1" strike="noStrike">
                <a:solidFill>
                  <a:srgbClr val="000000"/>
                </a:solidFill>
                <a:latin typeface="MyriadPro-Regular"/>
              </a:rPr>
              <a:t>: υποχρεωτική λειτουργία (προϋποθέσεις στελέχωση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6A2-103B-447B-89DA-CD59964CEF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1920" y="609120"/>
            <a:ext cx="81820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Επιχειρηματική δραστηριότητ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Αναπτυξιακές εταιρείες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(συμμετοχή/σύσταση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Θέματα ενέργειας, Κοινή Ωφέλεια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ξιοποίηση / διαχείριση Υποδομών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Εκτέλεση Μεταφορικού Έργου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ξιοποίηση τοπικών φυσικών πόρων, περιοχών, εγκαταστάσεων σημαντικής αναπτυξιακής ή τουριστικής αξία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Δημοτικές μονομετοχικές Α.Ε.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μικρών νησιωτικών δήμων για πρατήρια καυσίμω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5BB-0E44-417F-AF2F-6F8C2CA079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Προβληματισμο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υγκρότηση προγραμματικής πλειοψηφία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Προγραμματικό κείμενο πλειοψηφία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υγκρότηση Εκτελεστικής Επιτροπής (ορισμός Αντιδημάρχων) ουσιαστικός ρόλο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Διοικήσεις Νομικών Προσώπω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Συγκρότηση Προεδρείου Δημοτικού Συμβουλίο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611-A290-44FD-825E-E90F357191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Νέα Δομή Δήμω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Δήμος -&gt; δήμαρχος - δημοτικό συμβούλιο (</a:t>
            </a:r>
            <a:r>
              <a:rPr b="0" i="1" lang="el-GR" sz="2400" spc="-1" strike="noStrike">
                <a:solidFill>
                  <a:srgbClr val="000000"/>
                </a:solidFill>
                <a:latin typeface="Tahoma"/>
              </a:rPr>
              <a:t>ανάλογα με πληθυσμό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Δήμοι που συνενώθηκαν: δημοτικές ενότητες -&gt; εκλογικές περιφέρειες νέου δήμο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Κοινότητες (πρώην δημοτικές / τοπικές) -&gt; συμβούλιο (</a:t>
            </a:r>
            <a:r>
              <a:rPr b="0" i="1" lang="el-GR" sz="2400" spc="-1" strike="noStrike">
                <a:solidFill>
                  <a:srgbClr val="000000"/>
                </a:solidFill>
                <a:latin typeface="Tahoma"/>
              </a:rPr>
              <a:t>ανάλογα με τον πληθυσμό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-&gt; πρόεδρος-&gt; έμμεση εκλογ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Κοινότητες &lt; 300 κατοίκων -&gt; πρόεδρος-&gt; άμεση εκλογ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κλογές κάθε τέσσερα χρόνια (ημερομηνίες όπως πριν το 2010 -&gt; Οκτώβριος - Ιανουάριο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091-5D03-45EC-ACC2-99E203954B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Κατηγορίες Δήμων κριτήρι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Book Antiqua"/>
              </a:rPr>
              <a:t>Α) πληθυσμός (μόνιμος !!!!!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Book Antiqua"/>
              </a:rPr>
              <a:t>Β) γεωμορφολογικά χαρακτηριστικ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Book Antiqua"/>
              </a:rPr>
              <a:t>Γ) χαρακτηριστικά οικονομικής δραστηριότητα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Book Antiqua"/>
              </a:rPr>
              <a:t>Δ) βαθμός αστικοποίησή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Book Antiqua"/>
              </a:rPr>
              <a:t>Ε) ένταξη σε πολεοδομικά - μητροπολιτικά συγκροτήματ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Book Antiqua"/>
              </a:rPr>
              <a:t>Ζ) θέση στην διοικητική διαίρεση της χώρας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F83-1808-4758-9703-23FC7166D1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Κατηγορίες Δήμω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) Δήμοι Μητροπολιτικών Κέντρω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β) Μεγάλοι Ηπειρωτικοί Δήμοι &amp; Πρωτεύουσες Νομών + Δήμοι Κρήτης / Εύβοια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γ) Μεσαίοι Ηπειρωτικοί Δήμοι + Κρήτη + Εύβοι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δ) Μικροί Ηπειρωτικοί και Μικροί Ορεινοί Δήμο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) Μεγάλοι και Μεσαίοι Νησιωτικοί Δήμο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τ) Μικροί Νησιωτικοί Δήμο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7C3-C7B8-4A4E-8C9F-F6120F799B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298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Κατηγορίες Δήμων ταξινόμηση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Μητροπολιτικοί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Book Antiqua"/>
              </a:rPr>
              <a:t>Περιφέρεια Αττικής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</a:rPr>
              <a:t>δήμοι των Π.Ε. Κεντρικού, Βόρειου, Νότιου, Δυτικού Τομέα Αθηνών, Π.Ε. Πειραιώς,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Book Antiqua"/>
              </a:rPr>
              <a:t>Δήμοι Π.Ε. Θεσσαλονίκης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</a:rPr>
              <a:t>Θεσσαλονίκη, Καλαμαριά, Αμπελόκηποι-Μενεμένη, Παύλου Μελά, Κορδελιό-Εύοσμος, Νεάπολη-Συκιές, Πυλαία-Χορτιάτ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Μεγάλοι Ηπειρωτικοί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l-GR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</a:rPr>
              <a:t>&gt; 25.000 κατοίκους &amp; πρωτεύουσες νομώ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Μεσαίοι Ηπειρωτικοί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</a:rPr>
              <a:t> 10.000 - 25.000 κατοίκου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73A-8547-4DCD-9437-A2AF6D04E7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1057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Κατηγορίες Δήμων ταξινόμηση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ικροί Ηπειρωτικοί - Μικροί Ορεινοί Δήμο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: κάτω από 10.000 κατοίκους (και 50% κοινοτήτων ορεινέ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γάλοι και Μεσαίοι Νησιωτικοί Δήμο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: πάνω από 3.500 κατοίκου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ικροί Νησιωτικοί Δήμοι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: &lt; 3.500 κατοίκου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απόφαση ΥΠ.ΕΣ. και γνώμη της ΚΕΔΕ, οι κατηγορίες διακρίνονται σε υποκατηγορίε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05E-FBCF-4F0B-A2CC-B1689CCE8F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Κατηγορίες Δήμων στόχοι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Καθορισμός αρμοδιοτήτω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Κατάρτιση Ο.Ε.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Κατανομή Κ.Α.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9440" indent="-37944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Κατανομή - αξιοποίηση των πάσης φύσεως προγραμμάτων χρηματοδότησης από εθνικούς ή ευρωπαϊκούς πόρου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2E7-20FA-40F6-B853-B8051E3A93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Κριτήρια κατανομής Κ.Α.Π.</a:t>
            </a:r>
            <a:br>
              <a:rPr sz="4000"/>
            </a:b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κατηγορίες Δήμω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059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Δίκτυα ύδρευσης - αποχέτευση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Οδικό δίκτυ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Επίπεδο κοινωνικών υπηρεσιώ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Δημογραφικές τάσεις, διακύμανση πληθυσμο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Ποσοστό ανεργία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Τοπικό Α.Ε.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Έκτασ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Κλίμα - περιβάλλο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Δυνατότητα άντλησης τοπικών πόρω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Υποδομές π.χ. σχολεία, δημοτικά κτίρια, αθλητικ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321-ABA7-4EBD-AD1F-14A31968D2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99"/>
                </a:solidFill>
                <a:latin typeface="Tahoma"/>
              </a:rPr>
              <a:t>Σύστημα διοίκησης Δήμω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ντιδήμαρχοι: από όλες τις Δημοτικές Παρατάξεις (με έγκριση του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Μεταβίβαση αρμοδιοτήτων καθ΄ύλην και κατά τόπ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ύξηση αριθμού Αντιδημάρχων ανάλογα με αριθμό δημοτικών ενοτήτω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Τάσος Σαπουνάκη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ED5-17B8-4041-91C7-D8A6B6ADB9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22:04:39Z</dcterms:created>
  <dc:creator>Τάσος Σαπουνάκης</dc:creator>
  <dc:description/>
  <dc:language>en-US</dc:language>
  <cp:lastModifiedBy>Τάσος Σαπουνάκης</cp:lastModifiedBy>
  <dcterms:modified xsi:type="dcterms:W3CDTF">2018-12-17T08:03:12Z</dcterms:modified>
  <cp:revision>16</cp:revision>
  <dc:subject/>
  <dc:title>Μεταρρύθμιση του θεσμικού πλαισίου της Τ.Α. - εμβάθυνση της δημοκρατίας - ενίσχυση της συμμετοχής - βελτίωση της οικονομικής και αναπτυξιακής λειτουργίας των ΟΤΑ  Πρόγραμμα «ΚΛΕΙΣΘΕΝΗΣ Ι»</dc:title>
</cp:coreProperties>
</file>